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120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ftr" idx="84"/>
          </p:nvPr>
        </p:nvSpPr>
        <p:spPr>
          <a:xfrm>
            <a:off x="-360" y="8680320"/>
            <a:ext cx="2963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 Federazione IDEM - Finalità e Vant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sldNum" idx="85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9EE7A-9F6A-48DD-B909-05982671521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progetto-idem.idem.garr.it/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s://www.idem.garr.it/index.php/it/servizi/idp" TargetMode="External"/><Relationship Id="rId2" Type="http://schemas.openxmlformats.org/officeDocument/2006/relationships/hyperlink" Target="https://www.idem.garr.it/index.php/it/servizi/sp" TargetMode="External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D375F-6294-4B42-9D39-CC1B2AB5B41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9A674-8BB1-482B-AEB8-20DFF835972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CFF05-7E3F-446C-ACC8-33BC23C88A7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A99A5-6DC5-4A4B-BAA8-1D7DAE4A79B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7E0FB-1ADC-46E2-B936-AE8C5B9A748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03A65-BA57-47CE-8652-6E8B7810E60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B14DC-96EE-4EC9-A93D-2A8FEC0FECA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6F03C-B9E0-4E66-86E2-F10A3770EE1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Storia di ID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La Federazione IDEM nasce sulle basi poste dal lavoro di 2 anni (2007-2008) effettuato dal Progetto IDEM. Il progetto pilota del GARR per realizzare un'Infrastruttura di Autenticazione e Autorizzazione federata si è concluso con successo il 31 Marzo 2009 giungendo all'attivazione di 20 Identity Provider e 10 Service Provider. Il sito del progetto è raggiungibile all'indirizzo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http://progetto-idem.idem.garr.i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Gli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obiettiv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della Federazione Italiana delle Università e degli Enti di Ricerca per l’Autenticazione e l’Autorizzazione sono quelli di creare e supportare un framework, comune agli enti di formazione e di ricerca italiani, per la gestione condivisa degli accessi alle risorse on-line. Per raggiungere questi obiettivi IDEM favorisce lo sviluppo di una comunità basata sulla fiducia reciproca, cosi da facilitare i partecipanti a prendere decisioni appropriate, per il controllo degli accessi, sulla base delle informazioni fornite dai partecipanti stes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E9D56-FACD-4E52-A0BB-236F49B76C1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5BC13-9AF8-4D74-B898-DB1217CF142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2DA68-E5C4-4E6A-8F5E-F4DD8AC39F0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I Servizi della Federazione IDEM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 Servizi vengono classificati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*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Servizi di gestione e verifica delle identità </a:t>
            </a:r>
            <a:r>
              <a:rPr b="0" lang="it-IT" sz="1200" spc="-1" strike="noStrike">
                <a:solidFill>
                  <a:srgbClr val="009999"/>
                </a:solidFill>
                <a:latin typeface="Times New Roman"/>
                <a:ea typeface="SimSun"/>
              </a:rPr>
              <a:t>(ID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*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"/>
              </a:rPr>
              <a:t>Risorse </a:t>
            </a:r>
            <a:r>
              <a:rPr b="0" lang="it-IT" sz="1200" spc="-1" strike="noStrike">
                <a:solidFill>
                  <a:srgbClr val="009999"/>
                </a:solidFill>
                <a:latin typeface="Times New Roman"/>
                <a:ea typeface="SimSun"/>
              </a:rPr>
              <a:t>(SP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 Membri registrano principalmente un Servizio di gestione e verifica delle identità, ma possono registrare anche una o più Risor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 Partner generalmente registrano una o più Risorse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0666F-AE60-4117-B7C2-CBCEDCA3653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DAC9-ECB7-4002-8737-2FEE6B4D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81569-9CC8-47A8-ACF1-DC2DDD9A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C3FEC-8FCD-4EBD-B424-61854D3F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CD3C9-E9FE-4DEB-A222-DCE65F37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17E3B-7AE8-48AF-A01B-2706FF62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970B9-8E22-4065-A43E-9EA6E740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08535-30CB-4BEB-B34D-4FD3A807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A1527-B8F1-4683-AD91-D51A7283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6DDED-5D51-4C1C-86D4-2DD79F18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484FD-CE1A-492F-83A1-B38873CF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06906-DD4B-4B0C-B6A1-A59F1543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24544-3C58-4CBA-8448-12DC76F6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686C3-2747-4BDF-B5D2-16F85D94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EACF9-E827-447C-8FAB-B1724B7E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22A5D5-A412-4146-96CF-390D5484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D3898-7795-445B-9F18-0FC6DD13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9B96A-EE38-4096-9B27-BD93A466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D630A-FBE8-4BC5-B7B7-25A126D7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F7A6C-D4E4-4F6A-893B-E12D052F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C2029-D88F-4743-8294-550BAEED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618C1-024D-464D-9616-1418328D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10E27-2CAD-49E1-83EA-FA24AB9B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EE0FB-555C-43ED-986B-E2B1B49F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FB590-4A7F-4DD2-9782-5E9170F0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5C8569-4674-4EC4-A038-D4B4474D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E719C5-6D09-4E76-AF7B-C80F4AB5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74F9A8-846F-43E3-91EF-F180AD62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C9572A-A47B-4A26-803C-D07FF8DD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80761E-4BE8-4E3D-B69E-CAFFAB60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30AE8C-01AD-4B35-93B9-B1F38991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FFAC5A-F5AA-4C67-AB4C-0D27A19C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AF82B0-5EEB-4EF1-A147-5F999200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AE4ECB-2A53-4864-8BD5-1328C3D2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353421-1974-437F-9F65-4DCC43DF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E5C04-7665-4136-B6D5-F78D501D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A30737-05F6-4CD5-9F33-5EF48DB8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C05BB6-2B7D-4333-98B9-B9450075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B3D0F7-42CA-4A6F-917E-5C0EA32D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256DB-0251-40CD-A48F-252EF9F5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295EB3-6270-4E5C-B69C-635C35A5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5A8AD-5653-4959-8635-31A8FDDF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5FB288-EEC4-4FAD-8D78-CA97AEED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CE368-95CB-49F5-8399-4EBE2C65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32A41-86A4-4F42-93E6-2B1E33E1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79C75-44AC-42CA-8AC9-9766CBD2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E12AE-9325-4FE4-8471-88CD2F97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B90094-7EE6-4611-83C6-4EA2A9E9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B93FD-4433-4CCE-BC33-15746703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9F2E6-541A-44BA-8451-85479FFA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AA29E-2F06-4F94-9D83-6A3E35E5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18C1D-8857-4F66-A234-4481A055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1DDD93-A815-44AB-80D0-658F0A2C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94E64D-CFB4-4DCD-8A91-C208420A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14F35D-F3FB-48C7-B98D-A853C0BA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096171-B76A-4028-AFE5-DBD9E47E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A2D8B2-EAF7-4EB4-A53A-D7CE116B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8987B-6448-4D07-BE6C-9CC37AFB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D237F6-1D76-4ED2-9904-9269D02A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3C1116-8E1D-48D2-BEC9-8AC2025C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1E4478-BD45-44DC-AB3C-E24825B7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8DD591-1CAB-4754-A535-28775C6C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EF55B1-D29E-41CA-BDB1-BC338413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6F30C1-AEA0-487E-91B5-3B3F0778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3CB06E-F0C2-4983-9282-8A13B901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EC84C2-82E2-4DF0-8FC0-269E09D1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215C50-0C4B-41AF-9C22-07979FA3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2435A5-4B6D-46DB-9700-2C0E90F6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14CFC-4AB5-4E0F-9592-1E1A0E12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AA80C8-1DE7-41B3-A936-234F3563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B3E0BB-84BF-4922-B242-148B29EF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A4F463-5DD0-4B80-9C8C-F7254D3C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928E93-8BA6-46CA-A7C1-3F31C1EF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D8F0A0-82DA-4418-9094-CA47091A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B58F56-2083-4122-B643-A2047712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F99853-897E-4983-9D52-DB456210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3F451C-2BA1-4996-BF6D-7B1A73E3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1D30E9-F205-445D-9FBE-57881923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910240-49E4-4C8D-9842-B87AB700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D2287-8353-47AC-B20E-62E39237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46387D-12E6-4D6E-8EDD-35EDC099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9C5ABE-0CE9-4123-ACA5-B0A3D39E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E5C3CB-89BA-4160-B95C-8F01442B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4A532D-1521-4EB3-AFC3-92A6F086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12CC7F-047F-49E5-92C9-7FBDA53C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332D32-1F15-44E1-AEE8-F98EA6FF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0527EE-1A7D-45A6-99D0-817FD272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5688D4-25D0-4644-BBD0-1358939C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03A968E-C55F-46AE-BDFF-77536360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CF30DB-66D7-4434-B612-6DEAFC5A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6C040-A999-4BC2-82E9-D7DA6D49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DA61A6-7762-420C-A87C-6471F603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54A0B99-89BA-4E20-ADA5-039DA6E1C31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D41E58-05D4-4277-A0D6-3CF404E65F9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BBA4C60-5F38-4A24-B4E8-FEDB57816F7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6391AF-A3C6-4D4C-AFB2-C266DB94932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26871E4-D640-464E-8224-724887BE9C8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21A5D2-C12D-4E4B-9D77-4A5F0F8C61E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F39FC05-D89F-46FA-8B52-480F2D10F89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1F67BE4-D439-49C2-85F2-4642C11121D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E0159A9-0E2F-4E8E-A7D3-B1CD8758ED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7E32B-3E82-436C-A6B6-0E7EEE8E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D411883-B478-418E-878C-D4CA2CA130A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88DB21-B8C6-4A90-A663-1EFCF309160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EC1F7EB-5680-46FF-B877-6AF0041B781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A400-0C46-4787-99AF-5AE93A6C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7BB42-FA5D-4F72-8D1C-0BD0A837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3636B1-15D9-4601-86C3-CB018A4B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090CB5A-A08E-4C49-BB45-6BE9A3AA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243A9D-9087-4D87-BEDC-6DB0146A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46BF789-1F6E-44B1-9C67-3C7D95B7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5E4FBA-08B4-4155-BF1A-9C52EF04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85751-A5B6-4412-B788-2C5632E0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1E02D8-67E2-450E-A0EC-E60CF1BC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FD4246-8977-45C3-9E73-DB5E5859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4D62E4-95EC-4D6A-AAE9-C306FB14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DD1171-9EF1-49AB-A41F-44A05392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BD39543-0A06-4986-83D4-38E14ABC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605245D-300B-43C6-8211-D9CBE2A2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10BB7F-6C4D-403F-A743-A3FE5EA1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27FEBDD-59AD-4C5D-A33D-944F24AC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B6B1077-4EDE-4BC1-9B52-67294380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034160-2B05-4C21-A10F-E7293010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9A998-BCD3-4881-A7A9-6F256964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2A358BB-3689-47E6-84FE-91A58E85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5D129C6-B27A-4D70-970E-FEE913B5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C29DA1C-478B-4EB7-890A-1D2DE19D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42AFEC8-C5DC-4C5E-AB23-19EEECA3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84155DA-7282-4262-B87A-6A4553B2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EB66F47-3EBC-40C9-B206-39785F6B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EA9E17-9597-4BD8-9A1F-F6C04F43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9D77D09-4396-44F2-8D01-DA65B986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C70A88D-EAAD-451C-9E5E-3D3D8AD9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B49FD1-B739-4405-99A6-2405A3F3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FC40B-C19A-4319-8BF8-1735201A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946D8C1-EF51-4BF0-BD8F-8D6B0B58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1A90A4F-73CD-4243-B9E4-9D04054E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B64BBD9-DDDF-4D68-9DEB-26B5E4F8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802BCA2-099D-42AA-AB58-F2BA414A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7A1EB75-6884-4E4D-930F-93B6C13F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9284B10-72E6-4A49-B3CE-D082731F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BB2158D-1DE5-46CF-BB1E-521DA0E4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4AB9A05-50DA-429A-8DF7-9CBE4ADC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2A62D7F-5EE8-451B-B022-823CCADB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6D34CDD-0FD8-4DA0-9B7C-BE67226D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DC7BA-6E27-4F16-9E36-4006774D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23C87F6-BE35-4764-87A9-FC4262C9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9E5E457-E174-48AB-B674-BFF6C887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1F1890F-9A6F-4BB2-913C-06467924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5CF530A-814F-4DAA-8BDA-FC91EE9C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7C1181B-26FE-4FB0-9B33-33693F46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FCDE411-85A5-40DA-8924-F8B002F7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3C78147-9546-4E17-A146-8C03C7A7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98ACF97-E0AA-422E-8118-782DD8FD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977C749-08C7-417D-B591-E2D1CF0A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573B798-69EC-4060-84AB-F09EE6A9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77885-A435-4822-9977-A2DE7593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5460222-AFAF-4335-A442-CB78BBBA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585A926-CF90-4308-9BAD-37130E7F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68A1642-C3F4-4539-BBEF-667BCE00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DE8D9BB-7777-4F53-AE2B-D0BC3AA0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150864B-5C24-416F-B74E-F4470157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E4540C3-D5B1-411F-867D-883A112A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6D30305-179B-4057-869F-7884DF84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49B672D-8D1E-4DF4-BE1F-48040A4C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91BAE3B-2D43-4C72-A518-6168F516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221D32A-ABE5-458D-A477-611A28F3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7A19C-0483-44EC-8376-2D5AA800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8775EAD-03EC-42AA-8CCA-85DC7B44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80C47B0-1613-400F-9A56-CD4B65D0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A070CC4-7BE1-4CFC-8FCC-A0AF743F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71627D1-6506-432E-897B-DF7C4726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2C03D3-F15B-4A07-9B9F-D3244D12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BC5B660-EEA8-4A01-8D75-84419229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7608FE2-17F6-4B84-905C-9509AC1A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4D58698-A949-4C76-BCC3-0DB8BA89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1281630-1403-4B95-94D1-49F98360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D70FFED-7468-4994-9B20-C3A1238B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2C120-F0CC-4567-9456-E35AE16B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3E21CB7-1430-4110-9843-5C1DBA76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261A965-1E81-4931-A3AD-1318C4B9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67DF3C5-9375-4F65-9F3A-228E0DD5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27CEE35-DC32-4127-9D35-6B08A85A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12F191C-54C0-482A-8B96-8F30AE49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C92587E-9E96-482C-9DF5-FCE856D9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0EEAF2D-567C-4DFD-915F-6BE72D43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BA22D12-9446-4492-9EBB-ACFDC419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E69D215-2895-44D4-ABF2-7C133E48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CC6F5DA-D6B9-4578-9AE1-9E010465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3EA1C-97FD-4B55-8DA2-5A5E5A27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EA6978E-FD67-47D8-B525-0D1C94B1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BDE9FCF-FA93-4C4E-8177-6E3C5323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C365A55-8AA4-451A-83EC-FC9B0755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CDDE058-FA49-4EA2-8FBB-DE46D483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4DD7E67-CE75-4BC9-9FE8-DE2008FB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6CF45DF-A7D5-4119-8058-9514911E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F1F1DE7-6018-4857-92C6-DD2BAC1A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2B6FD07-741D-41B3-A5DA-7CBC5A91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8EDF18A-CB86-4FEA-A1BE-CCC2CE46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FAC4294-12A6-4238-A789-11BC1FBA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6AA05-C033-41A9-85AD-AA4ABB8D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1C0CDC6-CB0B-4392-BCDB-23C22C12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8E0A6A9-FC52-47A5-8350-EE42E9B6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9E58E7D-7733-4791-A6F9-254D1104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DE2A9F9-E84B-4836-B5E2-2CAE8E9C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33C3D11-8D99-480D-8386-1FC5A9B6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484F6D9-82F7-4FFE-8999-8732675F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1494CC7-9F5F-497C-AD8B-00D01AE3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C880B71-43B3-4933-A7C0-8D564B3B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D776865-2054-455F-8438-F0FBFCB3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26482AE-C2F5-4490-B6AF-4F387C41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93F5-D1BB-4AB5-BE28-B7F1D611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A16B2-B9B9-493B-B260-E4413E06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4152727-8FD8-487F-8EAC-042E7147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32C9D63-085E-40B7-B908-D7DE857E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7A37A40-C64A-44A4-9966-78442144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F103F34-B559-468F-A9BC-C61BAF25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42A9CB3-9927-4A92-84C6-8970B29B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A426FA5-1D52-41D7-9B7F-E7FA57F4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C09576A-B834-4439-B096-3FDBFD31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3274D23-860A-40E7-A659-73612622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E1226D9-DC3B-4BF3-9B0B-9FCA94B4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D62B783-F708-4EB5-AC62-FAB42B97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797D1-6120-4AF2-9B47-43CD9DFE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54E23D5-EA10-4BF1-9B7F-6B1A9655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90EA317-2E8A-4F9C-8BC5-F396E89E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5AC2758-80C0-4065-B381-A3417860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F4E6242-66A7-498A-B7A1-9ACB61A5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176A7C6-7968-461B-8741-065C1CAA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1E154A1-AC21-43C0-B8D0-02F62B0E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1A77A69-3B2B-469C-895D-D88B14BC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7021E43-098B-426D-BF70-983D416C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B9769AD-6BD1-4AC8-B88D-98287DDB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5BD12AC-A8E4-4D6F-928F-47237464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3C3D0-8F00-4523-A1FB-DB999EA5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F9EE12A-264F-4FCD-A5E6-861DDB51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C086570-3C1C-43CD-9FE0-115FCE31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6616AFF-04CD-4F2B-BC27-C18F044C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C027BCD-77DA-4D6B-A490-00BBCFB0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7E623C3-649A-4623-905D-0C904758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5487E4-78FB-495D-8168-6B81B12A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ED9284-FAC9-4B0F-9146-FF1EFF98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4CCD26-5367-4415-8F0A-661BDE7D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639052-C511-4341-83D0-C1C31F26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03FF7B-AF3F-4FAF-B08B-14DF902E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BC7EC-81B8-42E7-805E-6354D929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B0B9A4-0B0D-40B4-985F-94868ED2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667D1E-5DC1-406B-A05F-BC1AA921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B119F4-2CE3-4E6D-8375-41DCC48E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17AA01-211C-45F6-8DDB-B4211E9D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5073F3-62E6-4443-8751-82EC29CB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BA284F-C6C0-4C46-8436-9E0BB057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B6DC32-C0E4-47EF-8AB0-A717AB08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25281A2-A1D8-407F-9A7B-4745AF0ABCB1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134B948-1A4E-48CB-89AE-F52B36814555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26C9017-7C90-4117-BBE0-FA13222978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F7887-83EE-48A5-B80E-539D3275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C04BC96-69C3-4E93-8AAD-C5E9E4D63BBC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3F42ECA-B4E5-485D-B231-5C8FEBE9151E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9B349ED-2CED-479C-AD99-DCEF77DC76CB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B78EC36-7D9E-4070-8C24-59577877B32F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BFC236E-53E8-4141-A802-F65EF71C1690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517C1C8-0886-4383-8FBE-FAEB8AE0A902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B3C6599-AA90-4168-86A8-E4E7019471A4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CF945F9-7B6C-452E-83E5-9855D4B69491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4296029-5034-427E-B137-8830CF4EE4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B822E-4FAC-4B10-B8D2-E82F3C38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AE75F-26F9-40EC-B368-CFAF0BAB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992B0-04FB-46C2-A85A-80EEC63A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50A082-1357-49A7-BDFC-E83CC777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382FB-E641-4011-A6F9-0868863D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68266C-E6C8-488E-8624-E5B9A74B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73CAAF-FA31-4F7C-B0D4-F92908F0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911E0C-FF5A-4BA6-BACD-F96A7379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D7547D-E023-4A45-BFB2-7AE00898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EE9B4E-E570-48EE-AE1E-92C5DF02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23987C-7F0C-46BF-A247-484013EC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26A60C-43A3-4A5F-B39B-35B52F5C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E8A81A-A5C7-49F1-90B1-9BBC598E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DDEF4B-19AD-4BE1-95CA-D3782EEC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86DBDC-C116-49B9-B144-2BBD70A5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0D87-06BC-403D-B479-0DA5D6BA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73C551-8AC7-4A23-9EFA-37AE75D1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57F8D3-470C-4E33-9C87-FCA5C806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9F275C-202E-4305-A9FB-FB03A8A4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BC0D90-35E3-46EB-A278-D6E1E7CB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F88CA4-A93E-48D8-831D-73DB812E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8ED4CC-885E-4AE6-B753-ADC4A659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811AAD-D4BC-485B-B12A-0ACF80F5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40D07E-CA86-48DC-B057-D7FF468A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28D543-0C99-418A-9A36-77A78C3B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E9FA6A-7BA1-48F6-B082-06328DA7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BC819-6A49-4E27-AD0D-5A30FF50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206FAC-0BC3-400B-A61C-051F9492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6703F7-DAFF-48FE-8825-C07F3127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6534D9-0E1D-4855-B2E9-B14A7DD3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F48E91-371A-4495-AB04-12E2F9E4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C62DF2-BAE5-4872-BCF5-E1725DB0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41F95E-9A2C-4947-A2F1-2F5ADFCA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CEB85B-4247-4049-A729-1E478078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608DD2-85FB-4CA0-B7E7-A91E6F58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AC9693-49F9-4C8B-AC42-64D7D37E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8B2870-F4D8-4732-A3B3-06B53300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BE69D-3D9B-48BD-8E91-A9F5AC5E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459E60-2027-4F56-A55F-12578314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67A213-1931-48DF-B336-4C02A343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1B771F-4EA1-4804-8FE1-2D0DE0F3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63C8A3-7255-41F4-A3DD-DADE01ED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A9DB2F-EE91-431C-BAAD-5A87198A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6B2CF0-C142-40B5-9458-3FCA83B5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5E177B-59DE-4AE9-8BAD-126C4073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B33024-05AC-407C-866C-E1444DAA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BBE55F-D4A2-4CC9-8349-52BF4ECC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3B4ABC-E594-4D10-AC9F-9D6A6067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BAAB7-B40C-469C-A75D-010FC9A6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496704-01F3-4EB4-891C-E34D18BB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32985B-14FE-4969-ACD8-64B8E907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B8FEE1-8ECF-4BDB-9F69-E6B1A732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16FDE6-8818-4E24-8E5D-9F621CE8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97B800-1B1D-49B5-A302-653F3F80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507FDD-1F2A-4C58-A5CC-E72E8BA9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0DC9E7-0289-46A6-BF61-24EA6B39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5AE63-ADAE-45C1-B633-928701F6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6AACF-F1D6-41C8-BA01-FFC301A4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066B0-7DBC-479D-AB46-26EF42F9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Force GARR ICT4University - idem@garr.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86055-87B6-4879-9C9A-08BE9FBD4B57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7.09.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27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28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73D9C5E-B956-42F3-8754-E48B32A9D5EE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dt" idx="29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ftr" idx="30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31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8823A8-C3C9-4FAB-BDEB-D972FD3B33F0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dt" idx="32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ftr" idx="33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34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EC2C4DF-1C0C-4499-B682-74147D706868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dt" idx="35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36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sldNum" idx="37"/>
          </p:nvPr>
        </p:nvSpPr>
        <p:spPr>
          <a:xfrm>
            <a:off x="1476000" y="630720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31A6B2-2FDD-4DAB-839F-BAA2BE097579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dt" idx="38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ftr" idx="39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40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059D21-2355-44B7-8687-C7C78E80A00F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dt" idx="41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3"/>
          </p:nvPr>
        </p:nvSpPr>
        <p:spPr>
          <a:xfrm>
            <a:off x="3124080" y="6242040"/>
            <a:ext cx="28879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36701AC-6AC6-4C07-A0B1-58F3A9B7DE8B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ftr" idx="45"/>
          </p:nvPr>
        </p:nvSpPr>
        <p:spPr>
          <a:xfrm>
            <a:off x="4211640" y="6476760"/>
            <a:ext cx="48448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46"/>
          </p:nvPr>
        </p:nvSpPr>
        <p:spPr>
          <a:xfrm>
            <a:off x="6919560" y="612144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4DF86A-76B2-4C4B-9535-100225B7211C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7"/>
          </p:nvPr>
        </p:nvSpPr>
        <p:spPr>
          <a:xfrm>
            <a:off x="414000" y="5689440"/>
            <a:ext cx="7628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0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8"/>
          </p:nvPr>
        </p:nvSpPr>
        <p:spPr>
          <a:xfrm>
            <a:off x="414360" y="5267160"/>
            <a:ext cx="755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0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ftr" idx="49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sldNum" idx="50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C2E0F67-3FD2-4135-8450-86307C5E5832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dt" idx="51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ftr" idx="52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sldNum" idx="53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521E039-288F-48CC-A59C-D3AED22206C8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dt" idx="54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B4A35E-D193-4B16-ACEA-536648095058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ftr" idx="55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sldNum" idx="56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478820-301B-44F9-8AB8-4CCCBB97FDBD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dt" idx="57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58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59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4867FD5-A50C-4CBF-B657-5E519F14ACEE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dt" idx="60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61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62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14C31C-D8A8-407D-B5F0-EA01E31E3185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dt" idx="63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64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65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54CA5D1-562F-4949-B9D8-F15DDE6D9BC2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dt" idx="66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67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68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0D238B6-1233-4F44-9ACA-4FB9FE66A1B8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dt" idx="69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70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71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C1BC4F-C672-4D9D-BCC9-4C8120E52349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dt" idx="72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ftr" idx="73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sldNum" idx="74"/>
          </p:nvPr>
        </p:nvSpPr>
        <p:spPr>
          <a:xfrm>
            <a:off x="1476000" y="630720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6D6E84E-BE6C-40E9-A21A-B14D537E9910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dt" idx="75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ftr" idx="76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sldNum" idx="77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0E538CA-12A4-498D-9A7C-A7CEB5690170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dt" idx="78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DA3974F-FEA7-4230-B57B-2F538EECFF80}" type="slidenum">
              <a:rPr b="0" lang="it-IT" sz="14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ftr" idx="82"/>
          </p:nvPr>
        </p:nvSpPr>
        <p:spPr>
          <a:xfrm>
            <a:off x="4211640" y="6476760"/>
            <a:ext cx="48448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sldNum" idx="83"/>
          </p:nvPr>
        </p:nvSpPr>
        <p:spPr>
          <a:xfrm>
            <a:off x="6919560" y="612144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1A3664D-24ED-4777-8F63-5DF7714F01B3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0760" y="-228600"/>
            <a:ext cx="804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1640" y="1267920"/>
            <a:ext cx="748008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2556000" y="6254280"/>
            <a:ext cx="6416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854400" y="5775480"/>
            <a:ext cx="2125800" cy="4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00694C-CF50-49AA-9102-E5F0256D2F58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1692000" y="6470280"/>
            <a:ext cx="73105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14000" y="5689440"/>
            <a:ext cx="7628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0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4360" y="5267160"/>
            <a:ext cx="755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0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2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3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360593F-BEBF-4E43-804C-9074EEA11E2B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dt" idx="14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5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6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CAC350-1D73-47D5-894F-92C454D2B248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dt" idx="17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8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9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942ABDF-CFA8-4A56-BE92-B053DB19CA76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dt" idx="20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21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22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81D629-1918-4925-81AE-371FBE1F26B9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dt" idx="23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24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25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1D1472F-548F-495B-B102-97137D39962F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dt" idx="26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dem.garr.it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s://refeds.terena.org/index.php/Federations" TargetMode="External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dem.garr.it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dem.garr.it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idem.garr.it/index.php/it/chi-siamo/assemblea" TargetMode="External"/><Relationship Id="rId3" Type="http://schemas.openxmlformats.org/officeDocument/2006/relationships/hyperlink" Target="https://www.idem.garr.it/index.php/it/chi-siamo/comitato-di-indirizzo" TargetMode="External"/><Relationship Id="rId4" Type="http://schemas.openxmlformats.org/officeDocument/2006/relationships/hyperlink" Target="https://www.idem.garr.it/index.php/it/chi-siamo/comitato-tecnico-scientifico" TargetMode="External"/><Relationship Id="rId5" Type="http://schemas.openxmlformats.org/officeDocument/2006/relationships/hyperlink" Target="https://www.idem.garr.it/index.php/it/chi-siamo/servizio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dem.garr.it/" TargetMode="External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idem-help@garr.it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417600" y="1677960"/>
            <a:ext cx="77724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it-IT" sz="2800" spc="-1" strike="noStrike" u="sng">
                <a:solidFill>
                  <a:srgbClr val="ccccff"/>
                </a:solidFill>
                <a:uFillTx/>
                <a:latin typeface="STOMP_Forgotten Futurist"/>
                <a:hlinkClick r:id="rId2"/>
              </a:rPr>
              <a:t>www.idem.garr.it</a:t>
            </a: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 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14360" y="31161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990000"/>
                </a:solidFill>
                <a:latin typeface="Tahoma"/>
              </a:rPr>
              <a:t>Presentazione realizzata per workshop “ICT4UNIVERSITY”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990000"/>
                </a:solidFill>
                <a:latin typeface="Tahoma"/>
              </a:rPr>
              <a:t>12 Novembre 2010 Napo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14360" y="568944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Tahoma"/>
              </a:rPr>
              <a:t>Ing. Angelo Sacc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14360" y="5267160"/>
            <a:ext cx="756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01352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4C3CA-5E8E-442B-8CAC-E5C090FF424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3"/>
          <a:stretch/>
        </p:blipFill>
        <p:spPr>
          <a:xfrm>
            <a:off x="5148360" y="1979640"/>
            <a:ext cx="187164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411120" y="1079640"/>
            <a:ext cx="8229600" cy="54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niziative analoghe a IDEM sul piano naziona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CAR (Interoperabilità e Cooperazione Applicativa fra le Regioni) è l’azione interregionale finalizzata al coordinamento dello sviluppo in tutti i territori regionali della cooperazione applicativa secondo le specifiche SPCoop. L’azione è stata avviata in forma di progetto iniziato nel 2006 e concluso nel 2009 e ha definito e implementato un modello condiviso di infrastruttura territoriale e lo ha sperimentato in 7 ambiti applicativi. Dal 1 luglio 2009 è in corso l’attività di manutenzione e sviluppo dell’infrastruttura e di nuovi applicativi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Gestione identità federat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ono 18 (una in più dello scorso anno) le Regioni che intendono realizzare la Gestione delle Identità Digitali Federate, in 10 casi attraverso l’adozione della realizzazione ICAR. Il sistema è già realizzato in Emilia Romagna e Toscana, in corso di aggiornamento presso la Regione Campania, in corso di realizzazione presso la Provincia Autonoma di Trento e la Regione Valle D’Aosta. FedERa è il progetto che in Emilia Romagna si pone l’obiettivo di garantire la circolarità dell’autenticazione tra gli enti, permettendo a cittadini ed operatori della CN-ER di utilizzare una sola credenziale per accedere ai servizi on line disponibili sul territorio. Il progetto ARPA, sull’infrastruttura CART e a servizio della RTRT, costruisce l’identità federata sul territorio della Regione Toscana, federando le identità tra i diversi soggetti che offrono servizi. In Campania è il progetto SPICCA che ha consentito di individuare la soluzione per creare la federazione degli enti al fine di erogare in sicurezza i servizi presso la comunità regiona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niziative loca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lcune amministrazioni comunali hanno stipulato accordi con gli enti locali (Università, biblioteche) per consentire l'accesso ad internet con identità federate (Modena-Carpi-ReggioEmilia, Trento, Ferrara, 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2F443-55F3-4F40-A1D0-33B38F2D48E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  <p:pic>
        <p:nvPicPr>
          <p:cNvPr id="1249" name="" descr=""/>
          <p:cNvPicPr/>
          <p:nvPr/>
        </p:nvPicPr>
        <p:blipFill>
          <a:blip r:embed="rId3"/>
          <a:stretch/>
        </p:blipFill>
        <p:spPr>
          <a:xfrm>
            <a:off x="42840" y="-304920"/>
            <a:ext cx="9186840" cy="76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250920" y="-39600"/>
            <a:ext cx="8265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Le Federazioni AAI in Europa e non so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36A3C-3DC4-4A03-890C-7B3A7CA0A73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2"/>
          <a:stretch/>
        </p:blipFill>
        <p:spPr>
          <a:xfrm>
            <a:off x="1835280" y="871560"/>
            <a:ext cx="5973480" cy="553068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250920" y="2708280"/>
            <a:ext cx="80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Verso 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Confederazi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528480" y="2095560"/>
            <a:ext cx="433080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untry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Fed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T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COnet-A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U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ustralian Access Federation AA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Canadian Access Federation CA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WITCHa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Z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duID.c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FN-A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K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WAY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S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F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Ha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FR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Fédération Éducation-Recher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GR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G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HR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AI@EduH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29FAF-5295-40D5-B0A7-0832EEAF61F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0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  <p:sp>
        <p:nvSpPr>
          <p:cNvPr id="1261" name=""/>
          <p:cNvSpPr/>
          <p:nvPr/>
        </p:nvSpPr>
        <p:spPr>
          <a:xfrm>
            <a:off x="4859280" y="2160720"/>
            <a:ext cx="360036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untry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ed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HU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duID.hu (HREF Federa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dug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D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JP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PK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V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IF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L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RF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E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CTSa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WAM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K Federation for Education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d Researc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Comm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GT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55640" y="1413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iziative analoghe a IDEM sul piano internazion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s://refeds.terena.org/index.php/Fed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979640" y="5172120"/>
            <a:ext cx="6480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È in corso l'iniziativa EduGAIN per l'interoperabilità delle Federazioni nazional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he eduGAIN service simplifies access to resources and content on a Pan‑European scale for participating Research &amp; Education Institu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MS Gothic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MS Gothic"/>
              </a:rPr>
              <a:t>Vantaggi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MS Gothic"/>
              </a:rPr>
              <a:t>per il sistema universitario e della Ricerca scientifica italiano apportati da ID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efficienz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sicurezz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aggregazione di risor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riuso di serviz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flessibilità delle soluzi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interoperabilità (fra gli utenti della Federazione ed, in futuro, fra utenti delle Confederazion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Innov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Standardizzazione “dal basso” indotta da identità e servizi feder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B38B0-9ECF-49EB-AEC4-45B1049044C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MS Gothic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La federazione IDEM og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Il sito 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Tahoma"/>
                <a:ea typeface="MS Gothic"/>
                <a:hlinkClick r:id="rId2"/>
              </a:rPr>
              <a:t>www.idem.garr.i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 come primo e completo riferimento per sap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hi c'è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ome partecipare alla federazio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Modulistic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ome ed a chi chiedere support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Quali servizi sono già disponibil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Aggiungere un servizio-risorsa alla federazio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hi e come si decid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Ma ...non solo web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890CD-F568-40BF-BA19-7C4164135CC5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417600" y="1440000"/>
            <a:ext cx="78627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Prossimo appuntamento: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IDEM DAY si svolgerà a Roma, il 2 e 3 dicembre 2010, presso la sede del Ministero dell’Istruzione, dell’Università e della Ricerca, in piazza Kennedy, 20.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L'IDEM DAY rappresenta un’importante occasione di formazione rivolta al personale tecnico delle organizzazioni che partecipano o che hanno programmato di partecipare alla Federazione IDEM.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Prenotazioni ed informazioni: www.idem.garr.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14360" y="31161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14360" y="5267160"/>
            <a:ext cx="756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01352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2F8C0-7A73-497E-B4D6-05942DA64A4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2"/>
          <a:stretch/>
        </p:blipFill>
        <p:spPr>
          <a:xfrm>
            <a:off x="539640" y="5400720"/>
            <a:ext cx="28051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971640" y="1312560"/>
            <a:ext cx="748512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CONTAT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ng. Angelo Saccà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Università degli Studi di Torin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Tel.:   011.670.2037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Mail:  angelo.sacca@unito.i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411120" y="-142920"/>
            <a:ext cx="80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STOMP_Forgotten Futurist"/>
              </a:rPr>
              <a:t>Breve memo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50920" y="836640"/>
            <a:ext cx="87138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getto IDEM (2007-Marzo 20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ederazione IDEM (Aprile 20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SimSun"/>
              </a:rPr>
              <a:t>Regole e Documentazione per ader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SimSun"/>
              </a:rPr>
              <a:t>Servizio IDEM GARR A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el 1° anno della federazione siamo arrivati a 14 Membr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SimSun"/>
              </a:rPr>
              <a:t>Quasi tutti coloro che avevano partecipato al proget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SimSun"/>
              </a:rPr>
              <a:t>Anche qualcuno in pi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9/3/2010 Prima Assemblea dei Membri della Federazione IDEM: eletto il Comitato di Indiriz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31/08/2010 Membri = 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www.idem.garr.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2AB6F-D94D-4621-8FC6-FADAF38BFF9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3"/>
          <a:stretch/>
        </p:blipFill>
        <p:spPr>
          <a:xfrm>
            <a:off x="6300720" y="115920"/>
            <a:ext cx="1871640" cy="128124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519120" y="968400"/>
            <a:ext cx="755964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STOMP_Forgotten Futurist"/>
              </a:rPr>
              <a:t>IDEM: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Organi della Federazion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membri e partner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utenti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servizi-risors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il supporto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le tecno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BD76A-55DD-44A4-9898-80E1A617E1B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684360" y="1197000"/>
            <a:ext cx="822960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Organizzazione ID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Gli organi della Federazione sono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1. l'</a:t>
            </a:r>
            <a:r>
              <a:rPr b="0" lang="it-IT" sz="17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Assemblea dei Membri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2. il </a:t>
            </a:r>
            <a:r>
              <a:rPr b="0" lang="it-IT" sz="17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Comitato d'Indirizzo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3. il </a:t>
            </a:r>
            <a:r>
              <a:rPr b="0" lang="it-IT" sz="17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Comitato Tecnico-Scientifico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Il Comitato Tecnico-Scientifico opera in stretto raccordo con il </a:t>
            </a:r>
            <a:r>
              <a:rPr b="0" lang="it-IT" sz="17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Servizio IDEM GARR AAI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messo in opera da GARR per fare funzionare la Federazion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L'Assemblea dei Membri è composta dai Referenti Organizzativi (uno per Membro) e dai Referenti Tecnici (uno per Membro) nominati nella richiesta di adesione alla Federazione . Il Referente Organizzativo si esprime con il proprio voto e con parere. Il Referente Tecnico ha funzioni solamente consultiv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1.   I compiti dell'</a:t>
            </a:r>
            <a:r>
              <a:rPr b="1" lang="it-IT" sz="1700" spc="-1" strike="noStrike">
                <a:solidFill>
                  <a:srgbClr val="000000"/>
                </a:solidFill>
                <a:latin typeface="Tahoma"/>
              </a:rPr>
              <a:t>Assemblea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sono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la nomina del Presidente dell’Assemblea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l'elezione del Comitato d'Indirizzo e sua eventuale revoca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la proposta di candidature per il Comitato Tecnico-Scientifico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esprimere il parere vincolante sulle proposte di modifica ai documenti costitutivi della Federazione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esprimere il parere vincolante riguardo al piano annuale e al piano pluriennale di sviluppo della Federazione proposti dal Comitato di Indirizzo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7640E-6E6D-4EF0-977A-FC2A77E5B9E5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6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411120" y="-142920"/>
            <a:ext cx="80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STOMP_Forgotten Futurist"/>
              </a:rPr>
              <a:t>Partecipare ad ID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971640" y="1009800"/>
            <a:ext cx="7488000" cy="53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Partecipanti alla Federazione si distinguono i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embr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organizzazioni afferenti alla comunità GARR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artn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organizzazioni esterne a GAR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Membri sono gli enti che tipicamente connettono alla federazione il proprio sistema di autenticazione e quindi i proprio utenti al fine di favorire interoperabilità con i servizi-risorse della federazione (alcuni membri connettono anche servizi-risor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Partner generalmente  connettono alla federazione servizi-riso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95842-CAE9-43B3-AB36-D27AB0F5A2B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411120" y="-142920"/>
            <a:ext cx="80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STOMP_Forgotten Futurist"/>
              </a:rPr>
              <a:t>Utenti e servizi-risor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971640" y="1268280"/>
            <a:ext cx="7488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AE46B-D806-43F8-AA61-FDC0BDE9C23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014560" y="2824200"/>
            <a:ext cx="52912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vare per credere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it-IT" sz="3600" spc="-1" strike="noStrike" u="sng">
                <a:solidFill>
                  <a:srgbClr val="ccccff"/>
                </a:solidFill>
                <a:uFillTx/>
                <a:latin typeface="Times New Roman"/>
                <a:ea typeface="Lucida Sans Unicode"/>
                <a:hlinkClick r:id="rId2"/>
              </a:rPr>
              <a:t>www.idem.garr.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..tra i servizi anche il wif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590400" y="118908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L SUPPOR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È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evisto il supporto durante l'installazione di Idp e/o Sp, durante la fase testing o per inviare l'entityDescriptor del componente che si desidera far entrare in federazione scrivere all'indirizzo: </a:t>
            </a:r>
            <a:r>
              <a:rPr b="0" lang="it-IT" sz="1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idem-help@garr.it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(Maria Laura Mantovani coordina per Garr il servizio di suppor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supporto, IDEM GARR AAI,  mette a disposizione della Federazione i seguenti servizi specific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rende disponibili il catalogo e i metadati dei Servizi disponibili: validità, veridicità e tempestivo aggiornamento di tali informazioni sono di esclusiva responsabilità dei Partecipanti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fornisce alle Organizzazioni della Comunità GARR il know-how per la realizzazione dei Servizi attraverso attività di help-desk, formazione e aggiornamento; · fornisce ai potenziali Partner la documentazione e il supporto necessario all'interoperabilità delle Risorse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mette a disposizione il Discovery Service (WAYF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gestisce e mantiene il sito web ufficiale della Federazione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effettua attività di monitoraggio e audit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128EB-C5F5-4109-B103-283ACBA73B35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62108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250920" y="-95400"/>
            <a:ext cx="8388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STOMP_Forgotten Futurist"/>
              </a:rPr>
              <a:t>Membri e partner in IDEM (28) </a:t>
            </a: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agosto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5" name=""/>
          <p:cNvGraphicFramePr/>
          <p:nvPr/>
        </p:nvGraphicFramePr>
        <p:xfrm>
          <a:off x="250920" y="907920"/>
          <a:ext cx="8353440" cy="5437440"/>
        </p:xfrm>
        <a:graphic>
          <a:graphicData uri="http://schemas.openxmlformats.org/drawingml/2006/table">
            <a:tbl>
              <a:tblPr/>
              <a:tblGrid>
                <a:gridCol w="3168720"/>
                <a:gridCol w="3528720"/>
                <a:gridCol w="1656000"/>
              </a:tblGrid>
              <a:tr h="38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Università (1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Enti vigilati MIUR (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Altri (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olitecnico di Mil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Area della Ricerca di BARI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ASPU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Ca' Foscari Venez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Area della Ricerca di BOLOG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IL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Bari "Aldo Moro"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CERIS (Istituto di Ricerca sull’impresa e lo sviluppo) Tori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R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Cagliar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IFC (Istituto di Fisiologia Clinica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STA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Ferra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IVV (Istituto di Virologia Vegetale) Tori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Milano-Bicocc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IIT (Istituto di Informatica e Telematica) Pis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Modena e Reggio Emil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ILC (Istituto di Linguistica Computazionale) Pis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Pado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(Amministrazione Centrale) Rom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Parm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Tori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Urbino "Carlo Bo"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egli Studi “Roma Tre”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egli Studi di Pav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Bolog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IUAV di Venez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Politecnica delle March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6" name=""/>
          <p:cNvSpPr/>
          <p:nvPr/>
        </p:nvSpPr>
        <p:spPr>
          <a:xfrm>
            <a:off x="4211640" y="6477120"/>
            <a:ext cx="484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919920" y="6121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08BDE-9ACA-4AC7-AF72-64D035C5858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6372360" y="4941720"/>
            <a:ext cx="187164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250920" y="123840"/>
            <a:ext cx="7283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Risorse (SP) in Federazione e </a:t>
            </a:r>
            <a:r>
              <a:rPr b="1" lang="it-IT" sz="3200" spc="-1" strike="noStrike">
                <a:solidFill>
                  <a:srgbClr val="2136ff"/>
                </a:solidFill>
                <a:latin typeface="STOMP_Forgotten Futurist"/>
              </a:rPr>
              <a:t>in Test</a:t>
            </a: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 (17+</a:t>
            </a:r>
            <a:r>
              <a:rPr b="1" lang="it-IT" sz="3200" spc="-1" strike="noStrike">
                <a:solidFill>
                  <a:srgbClr val="2136ff"/>
                </a:solidFill>
                <a:latin typeface="STOMP_Forgotten Futurist"/>
              </a:rPr>
              <a:t>10</a:t>
            </a: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) al 31/08/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0" name=""/>
          <p:cNvGraphicFramePr/>
          <p:nvPr/>
        </p:nvGraphicFramePr>
        <p:xfrm>
          <a:off x="179280" y="1197000"/>
          <a:ext cx="8785440" cy="5075280"/>
        </p:xfrm>
        <a:graphic>
          <a:graphicData uri="http://schemas.openxmlformats.org/drawingml/2006/table">
            <a:tbl>
              <a:tblPr/>
              <a:tblGrid>
                <a:gridCol w="3095640"/>
                <a:gridCol w="3240360"/>
                <a:gridCol w="2449440"/>
              </a:tblGrid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Biblioteche (8+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Collaborazione/e-learning (4+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Altro (5+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ILEA Digital Library (CILE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AI WIKI (CASPU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P di Prova (GAR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Nilde Utenti (BiblioAreaCNR-B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RR VCONF (GARR/CINEC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iFi (UniT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hology Atlases (Masaryk University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Moodle-Shib (UniMOR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iFi (UniF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cienceDirect (Elsevi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YouBlog (UniT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iFi (CASPU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copus (Elsevi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ALMA ARC (INA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iFi (CNR Torin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pringerLink (Spring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IDEM AUTH JOOMLA (GAR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ff"/>
                          </a:solidFill>
                          <a:latin typeface="Trebuchet MS"/>
                          <a:ea typeface="Arial"/>
                        </a:rPr>
                        <a:t>Richiesta certificati Personal/eScience (GARR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eb Of Knowledge (ThomsonReut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Foodle (Uninett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BestPractice (BMJ Grou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Internet2 wiki (Internet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meroteca Virtuale (CASPU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EndNoteWeb (ThomsonReut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IEEE Xplore (IEE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Refwork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gLibrary (INF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1" name=""/>
          <p:cNvSpPr/>
          <p:nvPr/>
        </p:nvSpPr>
        <p:spPr>
          <a:xfrm>
            <a:off x="4211640" y="6477120"/>
            <a:ext cx="484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919920" y="6121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709A8-3FCF-4F3A-B880-E4E468328C2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3" name="" descr=""/>
          <p:cNvPicPr/>
          <p:nvPr/>
        </p:nvPicPr>
        <p:blipFill>
          <a:blip r:embed="rId2"/>
          <a:stretch/>
        </p:blipFill>
        <p:spPr>
          <a:xfrm>
            <a:off x="6840360" y="4659480"/>
            <a:ext cx="1872000" cy="128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9:38:38Z</dcterms:created>
  <dc:creator>sprotopa</dc:creator>
  <dc:description/>
  <dc:language>en-US</dc:language>
  <cp:lastModifiedBy>manto</cp:lastModifiedBy>
  <dcterms:modified xsi:type="dcterms:W3CDTF">2010-09-07T15:39:13Z</dcterms:modified>
  <cp:revision>84</cp:revision>
  <dc:subject/>
  <dc:title>Diapositiva 1</dc:title>
</cp:coreProperties>
</file>